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.wmf" ContentType="image/x-wmf"/>
  <Override PartName="/ppt/media/image25.wmf" ContentType="image/x-wmf"/>
  <Override PartName="/ppt/media/image3.wmf" ContentType="image/x-wmf"/>
  <Override PartName="/ppt/media/image26.wmf" ContentType="image/x-wmf"/>
  <Override PartName="/ppt/media/image4.jpeg" ContentType="image/jpeg"/>
  <Override PartName="/ppt/media/image6.png" ContentType="image/png"/>
  <Override PartName="/ppt/media/image8.png" ContentType="image/png"/>
  <Override PartName="/ppt/media/APPLAUSE.WAV" ContentType="audio/x-wav"/>
  <Override PartName="/ppt/media/image14.png" ContentType="image/png"/>
  <Override PartName="/ppt/media/image9.wmf" ContentType="image/x-wmf"/>
  <Override PartName="/ppt/media/image17.wmf" ContentType="image/x-wmf"/>
  <Override PartName="/ppt/media/DRIVEBY.WAV" ContentType="audio/x-wav"/>
  <Override PartName="/ppt/media/image11.wmf" ContentType="image/x-wmf"/>
  <Override PartName="/ppt/media/image12.png" ContentType="image/png"/>
  <Override PartName="/ppt/media/image10.png" ContentType="image/png"/>
  <Override PartName="/ppt/media/image1.jpeg" ContentType="image/jpeg"/>
  <Override PartName="/ppt/media/image15.wmf" ContentType="image/x-wmf"/>
  <Override PartName="/ppt/media/image7.wmf" ContentType="image/x-wmf"/>
  <Override PartName="/ppt/media/DRUMROLL.WAV" ContentType="audio/x-wav"/>
  <Override PartName="/ppt/media/image5.wmf" ContentType="image/x-wmf"/>
  <Override PartName="/ppt/media/TYPE.WAV" ContentType="audio/x-wav"/>
  <Override PartName="/ppt/media/image13.wmf" ContentType="image/x-wmf"/>
  <Override PartName="/ppt/media/image16.png" ContentType="image/png"/>
  <Override PartName="/ppt/media/image19.wmf" ContentType="image/x-wmf"/>
  <Override PartName="/ppt/media/image21.wmf" ContentType="image/x-wmf"/>
  <Override PartName="/ppt/media/image18.png" ContentType="image/png"/>
  <Override PartName="/ppt/media/image20.wmf" ContentType="image/x-wmf"/>
  <Override PartName="/ppt/media/image22.png" ContentType="image/png"/>
  <Override PartName="/ppt/media/image23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67D7-BA0F-43D3-9097-1AA71DFFA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DEDF-6C24-44EF-8793-E2811C6E9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ECED-B9DB-408C-87F2-6A8B6FC96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CB5F-4D67-4F82-96AC-C4FA8A9BB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9D90-FD22-4E78-B302-D93AD8B68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3AE9-AEEC-47EF-A3DB-4502F921A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871E-05DC-469D-87FE-F33FC3683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954E-4D33-4816-BE17-436534F0F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8AFC-465F-4506-9D39-7AB17EC51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7FD1-7B7F-4558-9751-3D747F2C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7435-ACF7-41D1-93AA-48EDD873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0802-7A45-4F84-B09B-F89D40E2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2324A-8046-4D14-975F-8C2584A13B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audio" Target="../media/DRIVEBY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audio" Target="../media/DRUMROLL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00"/>
                </a:solidFill>
                <a:latin typeface="Comic Sans MS"/>
              </a:rPr>
              <a:t>Strategies for Questio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000760"/>
            <a:ext cx="6400800" cy="6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AutoShape 4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AutoShape 5">
            <a:hlinkClick r:id="" action="ppaction://hlinkshowjump?jump=firstslide"/>
          </p:cNvPr>
          <p:cNvSpPr/>
          <p:nvPr/>
        </p:nvSpPr>
        <p:spPr>
          <a:xfrm>
            <a:off x="3352680" y="5815080"/>
            <a:ext cx="2971800" cy="1042920"/>
          </a:xfrm>
          <a:custGeom>
            <a:avLst/>
            <a:gdLst>
              <a:gd name="textAreaLeft" fmla="*/ 67320 w 2971800"/>
              <a:gd name="textAreaRight" fmla="*/ 2904480 w 297180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61535" h="21600">
                <a:moveTo>
                  <a:pt x="0" y="0"/>
                </a:moveTo>
                <a:lnTo>
                  <a:pt x="61535" y="0"/>
                </a:lnTo>
                <a:lnTo>
                  <a:pt x="61535" y="21600"/>
                </a:lnTo>
                <a:lnTo>
                  <a:pt x="0" y="21600"/>
                </a:lnTo>
                <a:close/>
              </a:path>
              <a:path fill="lightenLess" w="61535" h="21600">
                <a:moveTo>
                  <a:pt x="0" y="0"/>
                </a:moveTo>
                <a:lnTo>
                  <a:pt x="61535" y="0"/>
                </a:lnTo>
                <a:lnTo>
                  <a:pt x="60135" y="1400"/>
                </a:lnTo>
                <a:lnTo>
                  <a:pt x="1400" y="1400"/>
                </a:lnTo>
                <a:close/>
              </a:path>
              <a:path fill="darken" w="61535" h="21600">
                <a:moveTo>
                  <a:pt x="61535" y="0"/>
                </a:moveTo>
                <a:lnTo>
                  <a:pt x="61535" y="21600"/>
                </a:lnTo>
                <a:lnTo>
                  <a:pt x="60135" y="20200"/>
                </a:lnTo>
                <a:lnTo>
                  <a:pt x="60135" y="1400"/>
                </a:lnTo>
                <a:close/>
              </a:path>
              <a:path fill="darkenLess" w="61535" h="21600">
                <a:moveTo>
                  <a:pt x="615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135" y="20200"/>
                </a:lnTo>
                <a:close/>
              </a:path>
              <a:path fill="lighten" w="615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for Teach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2371680" cy="34290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3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900"/>
                            </p:stCondLst>
                            <p:childTnLst>
                              <p:par>
                                <p:cTn id="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5480" y="304920"/>
            <a:ext cx="8643960" cy="14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6699"/>
                </a:solidFill>
                <a:latin typeface="Comic Sans MS"/>
              </a:rPr>
              <a:t>“</a:t>
            </a:r>
            <a:r>
              <a:rPr b="1" i="1" lang="en-US" sz="4000" spc="-1" strike="noStrike">
                <a:solidFill>
                  <a:srgbClr val="6600cc"/>
                </a:solidFill>
                <a:latin typeface="Comic Sans MS"/>
              </a:rPr>
              <a:t>Author and Me”</a:t>
            </a:r>
            <a:br>
              <a:rPr sz="4000"/>
            </a:br>
            <a:r>
              <a:rPr b="1" i="1" lang="en-US" sz="4000" spc="-1" strike="noStrike">
                <a:solidFill>
                  <a:srgbClr val="6600cc"/>
                </a:solidFill>
                <a:latin typeface="Comic Sans MS"/>
              </a:rPr>
              <a:t>Head &amp; Heart</a:t>
            </a:r>
            <a:br>
              <a:rPr sz="4000"/>
            </a:br>
            <a:r>
              <a:rPr b="1" i="1" lang="en-US" sz="4000" spc="-1" strike="noStrike">
                <a:solidFill>
                  <a:srgbClr val="ff0000"/>
                </a:solidFill>
                <a:latin typeface="Comic Sans MS"/>
              </a:rPr>
              <a:t>Inferential/Respons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523880" y="4143240"/>
            <a:ext cx="6400800" cy="18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 answer these questions you combine what you know or have experienced with what is in the tex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4">
            <a:hlinkClick r:id="" action="ppaction://hlinkshowjump?jump=previousslide"/>
          </p:cNvPr>
          <p:cNvSpPr/>
          <p:nvPr/>
        </p:nvSpPr>
        <p:spPr>
          <a:xfrm>
            <a:off x="0" y="5943600"/>
            <a:ext cx="1042920" cy="914400"/>
          </a:xfrm>
          <a:custGeom>
            <a:avLst/>
            <a:gdLst>
              <a:gd name="textAreaLeft" fmla="*/ 59040 w 1042920"/>
              <a:gd name="textAreaRight" fmla="*/ 983880 w 10429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4635" h="21600">
                <a:moveTo>
                  <a:pt x="0" y="0"/>
                </a:moveTo>
                <a:lnTo>
                  <a:pt x="24635" y="0"/>
                </a:lnTo>
                <a:lnTo>
                  <a:pt x="24635" y="21600"/>
                </a:lnTo>
                <a:lnTo>
                  <a:pt x="0" y="21600"/>
                </a:lnTo>
                <a:close/>
              </a:path>
              <a:path fill="lightenLess" w="24635" h="21600">
                <a:moveTo>
                  <a:pt x="0" y="0"/>
                </a:moveTo>
                <a:lnTo>
                  <a:pt x="24635" y="0"/>
                </a:lnTo>
                <a:lnTo>
                  <a:pt x="23235" y="1400"/>
                </a:lnTo>
                <a:lnTo>
                  <a:pt x="1400" y="1400"/>
                </a:lnTo>
                <a:close/>
              </a:path>
              <a:path fill="darken" w="24635" h="21600">
                <a:moveTo>
                  <a:pt x="24635" y="0"/>
                </a:moveTo>
                <a:lnTo>
                  <a:pt x="24635" y="21600"/>
                </a:lnTo>
                <a:lnTo>
                  <a:pt x="23235" y="20200"/>
                </a:lnTo>
                <a:lnTo>
                  <a:pt x="23235" y="1400"/>
                </a:lnTo>
                <a:close/>
              </a:path>
              <a:path fill="darkenLess" w="24635" h="21600">
                <a:moveTo>
                  <a:pt x="24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35" y="20200"/>
                </a:lnTo>
                <a:close/>
              </a:path>
              <a:path fill="lighten" w="24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35" h="21600">
                <a:moveTo>
                  <a:pt x="5311" y="10800"/>
                </a:moveTo>
                <a:lnTo>
                  <a:pt x="19324" y="3794"/>
                </a:lnTo>
                <a:lnTo>
                  <a:pt x="19324" y="17806"/>
                </a:lnTo>
                <a:close/>
              </a:path>
            </a:pathLst>
          </a:cu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AutoShape 5">
            <a:hlinkClick r:id="" action="ppaction://hlinkshowjump?jump=nextslide"/>
          </p:cNvPr>
          <p:cNvSpPr/>
          <p:nvPr/>
        </p:nvSpPr>
        <p:spPr>
          <a:xfrm>
            <a:off x="8101080" y="5943600"/>
            <a:ext cx="1042920" cy="914400"/>
          </a:xfrm>
          <a:custGeom>
            <a:avLst/>
            <a:gdLst>
              <a:gd name="textAreaLeft" fmla="*/ 59040 w 1042920"/>
              <a:gd name="textAreaRight" fmla="*/ 983880 w 10429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4635" h="21600">
                <a:moveTo>
                  <a:pt x="0" y="0"/>
                </a:moveTo>
                <a:lnTo>
                  <a:pt x="24635" y="0"/>
                </a:lnTo>
                <a:lnTo>
                  <a:pt x="24635" y="21600"/>
                </a:lnTo>
                <a:lnTo>
                  <a:pt x="0" y="21600"/>
                </a:lnTo>
                <a:close/>
              </a:path>
              <a:path fill="lightenLess" w="24635" h="21600">
                <a:moveTo>
                  <a:pt x="0" y="0"/>
                </a:moveTo>
                <a:lnTo>
                  <a:pt x="24635" y="0"/>
                </a:lnTo>
                <a:lnTo>
                  <a:pt x="23235" y="1400"/>
                </a:lnTo>
                <a:lnTo>
                  <a:pt x="1400" y="1400"/>
                </a:lnTo>
                <a:close/>
              </a:path>
              <a:path fill="darken" w="24635" h="21600">
                <a:moveTo>
                  <a:pt x="24635" y="0"/>
                </a:moveTo>
                <a:lnTo>
                  <a:pt x="24635" y="21600"/>
                </a:lnTo>
                <a:lnTo>
                  <a:pt x="23235" y="20200"/>
                </a:lnTo>
                <a:lnTo>
                  <a:pt x="23235" y="1400"/>
                </a:lnTo>
                <a:close/>
              </a:path>
              <a:path fill="darkenLess" w="24635" h="21600">
                <a:moveTo>
                  <a:pt x="24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35" y="20200"/>
                </a:lnTo>
                <a:close/>
              </a:path>
              <a:path fill="lighten" w="24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35" h="21600">
                <a:moveTo>
                  <a:pt x="5311" y="3794"/>
                </a:moveTo>
                <a:lnTo>
                  <a:pt x="19324" y="10800"/>
                </a:lnTo>
                <a:lnTo>
                  <a:pt x="5311" y="17806"/>
                </a:lnTo>
                <a:close/>
              </a:path>
            </a:pathLst>
          </a:cu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2"/>
          <a:stretch/>
        </p:blipFill>
        <p:spPr>
          <a:xfrm>
            <a:off x="2500200" y="2214720"/>
            <a:ext cx="3124440" cy="15508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3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3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700"/>
                            </p:stCondLst>
                            <p:childTnLst>
                              <p:par>
                                <p:cTn id="13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200"/>
                            </p:stCondLst>
                            <p:childTnLst>
                              <p:par>
                                <p:cTn id="13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571680" y="3857760"/>
            <a:ext cx="8286480" cy="1214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5480" y="53316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Comic Sans MS"/>
              </a:rPr>
              <a:t>“</a:t>
            </a:r>
            <a:r>
              <a:rPr b="1" lang="en-US" sz="4000" spc="-1" strike="noStrike">
                <a:solidFill>
                  <a:srgbClr val="cc3300"/>
                </a:solidFill>
                <a:latin typeface="Comic Sans MS"/>
              </a:rPr>
              <a:t>Author and Me” </a:t>
            </a:r>
            <a:br>
              <a:rPr sz="4000"/>
            </a:br>
            <a:r>
              <a:rPr b="1" lang="en-US" sz="4000" spc="-1" strike="noStrike">
                <a:solidFill>
                  <a:srgbClr val="cc3300"/>
                </a:solidFill>
                <a:latin typeface="Comic Sans MS"/>
              </a:rPr>
              <a:t>Head &amp; Heart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Inferential/Respons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447920" y="235728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Comic Sans MS"/>
              </a:rPr>
              <a:t>Baa, baa, black sheep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Comic Sans MS"/>
              </a:rPr>
              <a:t>Have you any woo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857160" y="3929040"/>
            <a:ext cx="801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 could they want to do with the wool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3571920" y="5334120"/>
            <a:ext cx="2133720" cy="152388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6">
            <a:hlinkClick r:id="" action="ppaction://hlinkshowjump?jump=previousslide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AutoShape 7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Bar dir="horz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4" dur="3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100"/>
                            </p:stCondLst>
                            <p:childTnLst>
                              <p:par>
                                <p:cTn id="146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8" dur="3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600"/>
                            </p:stCondLst>
                            <p:childTnLst>
                              <p:par>
                                <p:cTn id="1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3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6600"/>
                            </p:stCondLst>
                            <p:childTnLst>
                              <p:par>
                                <p:cTn id="15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9933"/>
                </a:solidFill>
                <a:latin typeface="Comic Sans MS"/>
              </a:rPr>
              <a:t>“</a:t>
            </a:r>
            <a:r>
              <a:rPr b="1" i="1" lang="en-US" sz="4000" spc="-1" strike="noStrike">
                <a:solidFill>
                  <a:srgbClr val="339933"/>
                </a:solidFill>
                <a:latin typeface="Comic Sans MS"/>
              </a:rPr>
              <a:t>On My Own” </a:t>
            </a:r>
            <a:br>
              <a:rPr sz="4000"/>
            </a:br>
            <a:r>
              <a:rPr b="1" i="1" lang="en-US" sz="4000" spc="-1" strike="noStrike">
                <a:solidFill>
                  <a:srgbClr val="339933"/>
                </a:solidFill>
                <a:latin typeface="Comic Sans MS"/>
              </a:rPr>
              <a:t>Head &amp; Heart</a:t>
            </a:r>
            <a:br>
              <a:rPr sz="4000"/>
            </a:br>
            <a:r>
              <a:rPr b="1" i="1" lang="en-US" sz="4000" spc="-1" strike="noStrike">
                <a:solidFill>
                  <a:srgbClr val="ff0000"/>
                </a:solidFill>
                <a:latin typeface="Comic Sans MS"/>
              </a:rPr>
              <a:t>Respons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762120" y="2437920"/>
            <a:ext cx="76197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o answer </a:t>
            </a:r>
            <a:r>
              <a:rPr b="1" i="1" lang="en-US" sz="3600" spc="-1" strike="noStrike">
                <a:solidFill>
                  <a:srgbClr val="336600"/>
                </a:solidFill>
                <a:latin typeface="Comic Sans MS"/>
              </a:rPr>
              <a:t>On My Own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questions you use your own experiences and opin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1371600" y="4419720"/>
            <a:ext cx="1600200" cy="1676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"/>
          <p:cNvPicPr/>
          <p:nvPr/>
        </p:nvPicPr>
        <p:blipFill>
          <a:blip r:embed="rId3"/>
          <a:stretch/>
        </p:blipFill>
        <p:spPr>
          <a:xfrm>
            <a:off x="6629400" y="4419720"/>
            <a:ext cx="1681200" cy="1676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4"/>
          <a:stretch/>
        </p:blipFill>
        <p:spPr>
          <a:xfrm>
            <a:off x="3962520" y="4572000"/>
            <a:ext cx="2057400" cy="190512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8">
            <a:hlinkClick r:id="" action="ppaction://hlinkshowjump?jump=previousslide"/>
          </p:cNvPr>
          <p:cNvSpPr/>
          <p:nvPr/>
        </p:nvSpPr>
        <p:spPr>
          <a:xfrm>
            <a:off x="0" y="6172200"/>
            <a:ext cx="1042920" cy="685800"/>
          </a:xfrm>
          <a:custGeom>
            <a:avLst/>
            <a:gdLst>
              <a:gd name="textAreaLeft" fmla="*/ 44280 w 1042920"/>
              <a:gd name="textAreaRight" fmla="*/ 998640 w 1042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2842" h="21600">
                <a:moveTo>
                  <a:pt x="0" y="0"/>
                </a:moveTo>
                <a:lnTo>
                  <a:pt x="32842" y="0"/>
                </a:lnTo>
                <a:lnTo>
                  <a:pt x="32842" y="21600"/>
                </a:lnTo>
                <a:lnTo>
                  <a:pt x="0" y="21600"/>
                </a:lnTo>
                <a:close/>
              </a:path>
              <a:path fill="lightenLess" w="32842" h="21600">
                <a:moveTo>
                  <a:pt x="0" y="0"/>
                </a:moveTo>
                <a:lnTo>
                  <a:pt x="32842" y="0"/>
                </a:lnTo>
                <a:lnTo>
                  <a:pt x="31442" y="1400"/>
                </a:lnTo>
                <a:lnTo>
                  <a:pt x="1400" y="1400"/>
                </a:lnTo>
                <a:close/>
              </a:path>
              <a:path fill="darken" w="32842" h="21600">
                <a:moveTo>
                  <a:pt x="32842" y="0"/>
                </a:moveTo>
                <a:lnTo>
                  <a:pt x="32842" y="21600"/>
                </a:lnTo>
                <a:lnTo>
                  <a:pt x="31442" y="20200"/>
                </a:lnTo>
                <a:lnTo>
                  <a:pt x="31442" y="1400"/>
                </a:lnTo>
                <a:close/>
              </a:path>
              <a:path fill="darkenLess" w="32842" h="21600">
                <a:moveTo>
                  <a:pt x="328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42" y="20200"/>
                </a:lnTo>
                <a:close/>
              </a:path>
              <a:path fill="lighten" w="328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842" h="21600">
                <a:moveTo>
                  <a:pt x="9415" y="10800"/>
                </a:moveTo>
                <a:lnTo>
                  <a:pt x="23427" y="3794"/>
                </a:lnTo>
                <a:lnTo>
                  <a:pt x="23427" y="17806"/>
                </a:lnTo>
                <a:close/>
              </a:path>
            </a:pathLst>
          </a:custGeom>
          <a:solidFill>
            <a:srgbClr val="99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AutoShape 9">
            <a:hlinkClick r:id="" action="ppaction://hlinkshowjump?jump=nextslide"/>
          </p:cNvPr>
          <p:cNvSpPr/>
          <p:nvPr/>
        </p:nvSpPr>
        <p:spPr>
          <a:xfrm>
            <a:off x="8101080" y="6172200"/>
            <a:ext cx="1042920" cy="685800"/>
          </a:xfrm>
          <a:custGeom>
            <a:avLst/>
            <a:gdLst>
              <a:gd name="textAreaLeft" fmla="*/ 44280 w 1042920"/>
              <a:gd name="textAreaRight" fmla="*/ 998640 w 1042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2842" h="21600">
                <a:moveTo>
                  <a:pt x="0" y="0"/>
                </a:moveTo>
                <a:lnTo>
                  <a:pt x="32842" y="0"/>
                </a:lnTo>
                <a:lnTo>
                  <a:pt x="32842" y="21600"/>
                </a:lnTo>
                <a:lnTo>
                  <a:pt x="0" y="21600"/>
                </a:lnTo>
                <a:close/>
              </a:path>
              <a:path fill="lightenLess" w="32842" h="21600">
                <a:moveTo>
                  <a:pt x="0" y="0"/>
                </a:moveTo>
                <a:lnTo>
                  <a:pt x="32842" y="0"/>
                </a:lnTo>
                <a:lnTo>
                  <a:pt x="31442" y="1400"/>
                </a:lnTo>
                <a:lnTo>
                  <a:pt x="1400" y="1400"/>
                </a:lnTo>
                <a:close/>
              </a:path>
              <a:path fill="darken" w="32842" h="21600">
                <a:moveTo>
                  <a:pt x="32842" y="0"/>
                </a:moveTo>
                <a:lnTo>
                  <a:pt x="32842" y="21600"/>
                </a:lnTo>
                <a:lnTo>
                  <a:pt x="31442" y="20200"/>
                </a:lnTo>
                <a:lnTo>
                  <a:pt x="31442" y="1400"/>
                </a:lnTo>
                <a:close/>
              </a:path>
              <a:path fill="darkenLess" w="32842" h="21600">
                <a:moveTo>
                  <a:pt x="328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42" y="20200"/>
                </a:lnTo>
                <a:close/>
              </a:path>
              <a:path fill="lighten" w="328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842" h="21600">
                <a:moveTo>
                  <a:pt x="9415" y="3794"/>
                </a:moveTo>
                <a:lnTo>
                  <a:pt x="23427" y="10800"/>
                </a:lnTo>
                <a:lnTo>
                  <a:pt x="9415" y="17806"/>
                </a:lnTo>
                <a:close/>
              </a:path>
            </a:pathLst>
          </a:custGeom>
          <a:solidFill>
            <a:srgbClr val="99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blinds dir="vert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75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75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175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75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75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675"/>
                            </p:stCondLst>
                            <p:childTnLst>
                              <p:par>
                                <p:cTn id="1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7175"/>
                            </p:stCondLst>
                            <p:childTnLst>
                              <p:par>
                                <p:cTn id="17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7675"/>
                            </p:stCondLst>
                            <p:childTnLst>
                              <p:par>
                                <p:cTn id="18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1071720" y="4286160"/>
            <a:ext cx="7000560" cy="157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99"/>
                </a:solidFill>
                <a:latin typeface="Comic Sans MS"/>
              </a:rPr>
              <a:t>“</a:t>
            </a:r>
            <a:r>
              <a:rPr b="1" lang="en-US" sz="4800" spc="-1" strike="noStrike">
                <a:solidFill>
                  <a:srgbClr val="cc0099"/>
                </a:solidFill>
                <a:latin typeface="Comic Sans MS"/>
              </a:rPr>
              <a:t>On </a:t>
            </a:r>
            <a:r>
              <a:rPr b="1" lang="en-US" sz="4000" spc="-1" strike="noStrike">
                <a:solidFill>
                  <a:srgbClr val="cc0099"/>
                </a:solidFill>
                <a:latin typeface="Comic Sans MS"/>
              </a:rPr>
              <a:t>My Own”</a:t>
            </a:r>
            <a:br>
              <a:rPr sz="4000"/>
            </a:br>
            <a:r>
              <a:rPr b="1" lang="en-US" sz="4000" spc="-1" strike="noStrike">
                <a:solidFill>
                  <a:srgbClr val="cc0099"/>
                </a:solidFill>
                <a:latin typeface="Comic Sans MS"/>
              </a:rPr>
              <a:t>Head &amp; Heart</a:t>
            </a:r>
            <a:br>
              <a:rPr sz="4000"/>
            </a:br>
            <a:r>
              <a:rPr b="1" i="1" lang="en-US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Respons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990360" y="236232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Comic Sans MS"/>
              </a:rPr>
              <a:t>Mary, Mary, quite contrary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Comic Sans MS"/>
              </a:rPr>
              <a:t>How does your garden gr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447920" y="4500720"/>
            <a:ext cx="6316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 would you plant in you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arden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2"/>
          <a:stretch/>
        </p:blipFill>
        <p:spPr>
          <a:xfrm>
            <a:off x="0" y="428760"/>
            <a:ext cx="2057400" cy="259056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>
            <a:hlinkClick r:id="" action="ppaction://hlinkshowjump?jump=previousslide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AutoShape 7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l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4" dur="3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600"/>
                            </p:stCondLst>
                            <p:childTnLst>
                              <p:par>
                                <p:cTn id="19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3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400"/>
                            </p:stCondLst>
                            <p:childTnLst>
                              <p:par>
                                <p:cTn id="20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2" dur="3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6800"/>
                            </p:stCondLst>
                            <p:childTnLst>
                              <p:par>
                                <p:cTn id="20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4200" y="304560"/>
            <a:ext cx="81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Comic Sans MS"/>
              </a:rPr>
              <a:t>When answering questions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6840" y="2142720"/>
            <a:ext cx="74674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Ask yourself, what type of a question is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Comic Sans MS"/>
              </a:rPr>
              <a:t>Do I need to scan the text to locate the informat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Comic Sans MS"/>
              </a:rPr>
              <a:t>Do I need to gather information from more than one place in the text and think about what I know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Comic Sans MS"/>
              </a:rPr>
              <a:t>Do I need to think about what the text says and apply what I know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Comic Sans MS"/>
              </a:rPr>
              <a:t>Do I need to connect to my own personal experiences and think about my opin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4">
            <a:hlinkClick r:id="" action="ppaction://hlinkshowjump?jump=previousslide"/>
          </p:cNvPr>
          <p:cNvSpPr/>
          <p:nvPr/>
        </p:nvSpPr>
        <p:spPr>
          <a:xfrm>
            <a:off x="0" y="6119640"/>
            <a:ext cx="1042920" cy="738360"/>
          </a:xfrm>
          <a:custGeom>
            <a:avLst/>
            <a:gdLst>
              <a:gd name="textAreaLeft" fmla="*/ 47880 w 1042920"/>
              <a:gd name="textAreaRight" fmla="*/ 995400 w 1042920"/>
              <a:gd name="textAreaTop" fmla="*/ 47880 h 738360"/>
              <a:gd name="textAreaBottom" fmla="*/ 690840 h 738360"/>
            </a:gdLst>
            <a:ahLst/>
            <a:rect l="textAreaLeft" t="textAreaTop" r="textAreaRight" b="textAreaBottom"/>
            <a:pathLst>
              <a:path w="30505" h="21600">
                <a:moveTo>
                  <a:pt x="0" y="0"/>
                </a:moveTo>
                <a:lnTo>
                  <a:pt x="30505" y="0"/>
                </a:lnTo>
                <a:lnTo>
                  <a:pt x="30505" y="21600"/>
                </a:lnTo>
                <a:lnTo>
                  <a:pt x="0" y="21600"/>
                </a:lnTo>
                <a:close/>
              </a:path>
              <a:path fill="lightenLess" w="30505" h="21600">
                <a:moveTo>
                  <a:pt x="0" y="0"/>
                </a:moveTo>
                <a:lnTo>
                  <a:pt x="30505" y="0"/>
                </a:lnTo>
                <a:lnTo>
                  <a:pt x="29105" y="1400"/>
                </a:lnTo>
                <a:lnTo>
                  <a:pt x="1400" y="1400"/>
                </a:lnTo>
                <a:close/>
              </a:path>
              <a:path fill="darken" w="30505" h="21600">
                <a:moveTo>
                  <a:pt x="30505" y="0"/>
                </a:moveTo>
                <a:lnTo>
                  <a:pt x="30505" y="21600"/>
                </a:lnTo>
                <a:lnTo>
                  <a:pt x="29105" y="20200"/>
                </a:lnTo>
                <a:lnTo>
                  <a:pt x="29105" y="1400"/>
                </a:lnTo>
                <a:close/>
              </a:path>
              <a:path fill="darkenLess" w="30505" h="21600">
                <a:moveTo>
                  <a:pt x="305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05" y="20200"/>
                </a:lnTo>
                <a:close/>
              </a:path>
              <a:path fill="lighten" w="305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05" h="21600">
                <a:moveTo>
                  <a:pt x="8246" y="10800"/>
                </a:moveTo>
                <a:lnTo>
                  <a:pt x="22259" y="3794"/>
                </a:lnTo>
                <a:lnTo>
                  <a:pt x="22259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6400800" y="6400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3" name="Picture 9" descr=""/>
          <p:cNvPicPr/>
          <p:nvPr/>
        </p:nvPicPr>
        <p:blipFill>
          <a:blip r:embed="rId2"/>
          <a:stretch/>
        </p:blipFill>
        <p:spPr>
          <a:xfrm>
            <a:off x="7143840" y="642960"/>
            <a:ext cx="2365200" cy="2952720"/>
          </a:xfrm>
          <a:prstGeom prst="rect">
            <a:avLst/>
          </a:prstGeom>
          <a:ln w="0">
            <a:noFill/>
          </a:ln>
        </p:spPr>
      </p:pic>
      <p:sp>
        <p:nvSpPr>
          <p:cNvPr id="124" name="AutoShape 10">
            <a:hlinkClick r:id="" action="ppaction://hlinkshowjump?jump=nextslide"/>
          </p:cNvPr>
          <p:cNvSpPr/>
          <p:nvPr/>
        </p:nvSpPr>
        <p:spPr>
          <a:xfrm>
            <a:off x="8101080" y="6119640"/>
            <a:ext cx="1042920" cy="738360"/>
          </a:xfrm>
          <a:custGeom>
            <a:avLst/>
            <a:gdLst>
              <a:gd name="textAreaLeft" fmla="*/ 47880 w 1042920"/>
              <a:gd name="textAreaRight" fmla="*/ 995400 w 1042920"/>
              <a:gd name="textAreaTop" fmla="*/ 47880 h 738360"/>
              <a:gd name="textAreaBottom" fmla="*/ 690840 h 738360"/>
            </a:gdLst>
            <a:ahLst/>
            <a:rect l="textAreaLeft" t="textAreaTop" r="textAreaRight" b="textAreaBottom"/>
            <a:pathLst>
              <a:path w="30505" h="21600">
                <a:moveTo>
                  <a:pt x="0" y="0"/>
                </a:moveTo>
                <a:lnTo>
                  <a:pt x="30505" y="0"/>
                </a:lnTo>
                <a:lnTo>
                  <a:pt x="30505" y="21600"/>
                </a:lnTo>
                <a:lnTo>
                  <a:pt x="0" y="21600"/>
                </a:lnTo>
                <a:close/>
              </a:path>
              <a:path fill="lightenLess" w="30505" h="21600">
                <a:moveTo>
                  <a:pt x="0" y="0"/>
                </a:moveTo>
                <a:lnTo>
                  <a:pt x="30505" y="0"/>
                </a:lnTo>
                <a:lnTo>
                  <a:pt x="29105" y="1400"/>
                </a:lnTo>
                <a:lnTo>
                  <a:pt x="1400" y="1400"/>
                </a:lnTo>
                <a:close/>
              </a:path>
              <a:path fill="darken" w="30505" h="21600">
                <a:moveTo>
                  <a:pt x="30505" y="0"/>
                </a:moveTo>
                <a:lnTo>
                  <a:pt x="30505" y="21600"/>
                </a:lnTo>
                <a:lnTo>
                  <a:pt x="29105" y="20200"/>
                </a:lnTo>
                <a:lnTo>
                  <a:pt x="29105" y="1400"/>
                </a:lnTo>
                <a:close/>
              </a:path>
              <a:path fill="darkenLess" w="30505" h="21600">
                <a:moveTo>
                  <a:pt x="305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05" y="20200"/>
                </a:lnTo>
                <a:close/>
              </a:path>
              <a:path fill="lighten" w="305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05" h="21600">
                <a:moveTo>
                  <a:pt x="8246" y="3794"/>
                </a:moveTo>
                <a:lnTo>
                  <a:pt x="22259" y="10800"/>
                </a:lnTo>
                <a:lnTo>
                  <a:pt x="824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in"/>
    <p:sndAc>
      <p:stSnd>
        <p:snd r:embed="rId3" name="APPLAUSE.WAV"/>
      </p:stSnd>
    </p:sndAc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4" dur="75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725"/>
                            </p:stCondLst>
                            <p:childTnLst>
                              <p:par>
                                <p:cTn id="21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225"/>
                            </p:stCondLst>
                            <p:childTnLst>
                              <p:par>
                                <p:cTn id="2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3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525"/>
                            </p:stCondLst>
                            <p:childTnLst>
                              <p:par>
                                <p:cTn id="2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3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9125"/>
                            </p:stCondLst>
                            <p:childTnLst>
                              <p:par>
                                <p:cTn id="2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3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5425"/>
                            </p:stCondLst>
                            <p:childTnLst>
                              <p:par>
                                <p:cTn id="2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3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225"/>
                            </p:stCondLst>
                            <p:childTnLst>
                              <p:par>
                                <p:cTn id="2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3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ccccff"/>
            </a:gs>
            <a:gs pos="100000">
              <a:srgbClr val="99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785520"/>
            <a:ext cx="7772400" cy="14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actice writing questions for something you are read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150560" y="3100320"/>
            <a:ext cx="43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types are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1255680" y="3809880"/>
            <a:ext cx="341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Comic Sans MS"/>
              </a:rPr>
              <a:t>1. Right ther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1841760" y="4495680"/>
            <a:ext cx="473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Comic Sans MS"/>
              </a:rPr>
              <a:t>2. Think and search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2330280" y="5257800"/>
            <a:ext cx="425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3. Author and m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3224880" y="5867280"/>
            <a:ext cx="341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Comic Sans MS"/>
              </a:rPr>
              <a:t>4. On my own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AutoShape 8">
            <a:hlinkClick r:id="" action="ppaction://hlinkshowjump?jump=previousslide"/>
          </p:cNvPr>
          <p:cNvSpPr/>
          <p:nvPr/>
        </p:nvSpPr>
        <p:spPr>
          <a:xfrm>
            <a:off x="0" y="6095880"/>
            <a:ext cx="1042920" cy="762120"/>
          </a:xfrm>
          <a:custGeom>
            <a:avLst/>
            <a:gdLst>
              <a:gd name="textAreaLeft" fmla="*/ 49320 w 1042920"/>
              <a:gd name="textAreaRight" fmla="*/ 993600 w 1042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555" h="21600">
                <a:moveTo>
                  <a:pt x="0" y="0"/>
                </a:moveTo>
                <a:lnTo>
                  <a:pt x="29555" y="0"/>
                </a:lnTo>
                <a:lnTo>
                  <a:pt x="29555" y="21600"/>
                </a:lnTo>
                <a:lnTo>
                  <a:pt x="0" y="21600"/>
                </a:lnTo>
                <a:close/>
              </a:path>
              <a:path fill="lightenLess" w="29555" h="21600">
                <a:moveTo>
                  <a:pt x="0" y="0"/>
                </a:moveTo>
                <a:lnTo>
                  <a:pt x="29555" y="0"/>
                </a:lnTo>
                <a:lnTo>
                  <a:pt x="28155" y="1400"/>
                </a:lnTo>
                <a:lnTo>
                  <a:pt x="1400" y="1400"/>
                </a:lnTo>
                <a:close/>
              </a:path>
              <a:path fill="darken" w="29555" h="21600">
                <a:moveTo>
                  <a:pt x="29555" y="0"/>
                </a:moveTo>
                <a:lnTo>
                  <a:pt x="29555" y="21600"/>
                </a:lnTo>
                <a:lnTo>
                  <a:pt x="28155" y="20200"/>
                </a:lnTo>
                <a:lnTo>
                  <a:pt x="28155" y="1400"/>
                </a:lnTo>
                <a:close/>
              </a:path>
              <a:path fill="darkenLess" w="29555" h="21600">
                <a:moveTo>
                  <a:pt x="29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55" y="20200"/>
                </a:lnTo>
                <a:close/>
              </a:path>
              <a:path fill="lighten" w="29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55" h="21600">
                <a:moveTo>
                  <a:pt x="7771" y="10800"/>
                </a:moveTo>
                <a:lnTo>
                  <a:pt x="21784" y="3794"/>
                </a:lnTo>
                <a:lnTo>
                  <a:pt x="21784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7144920" y="5961240"/>
            <a:ext cx="114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en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3" name="Picture 11" descr=""/>
          <p:cNvPicPr/>
          <p:nvPr/>
        </p:nvPicPr>
        <p:blipFill>
          <a:blip r:embed="rId1"/>
          <a:stretch/>
        </p:blipFill>
        <p:spPr>
          <a:xfrm>
            <a:off x="5867280" y="1981080"/>
            <a:ext cx="3276720" cy="32767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6500"/>
                            </p:stCondLst>
                            <p:childTnLst>
                              <p:par>
                                <p:cTn id="2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7000"/>
                            </p:stCondLst>
                            <p:childTnLst>
                              <p:par>
                                <p:cTn id="26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80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d2db9"/>
                </a:solidFill>
                <a:latin typeface="Times New Roman"/>
              </a:rPr>
              <a:t>Learning Obj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5911920" y="526248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AutoShape 6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428760" y="2446200"/>
            <a:ext cx="8869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students will identify different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ypes of questions and apply these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rategies to reading comprehension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" name="Picture 6" descr="C:\Users\olyons\AppData\Local\Microsoft\Windows\Temporary Internet Files\Content.IE5\RYO1PTPN\MC900071191[1].wmf"/>
          <p:cNvPicPr/>
          <p:nvPr/>
        </p:nvPicPr>
        <p:blipFill>
          <a:blip r:embed="rId1"/>
          <a:stretch/>
        </p:blipFill>
        <p:spPr>
          <a:xfrm>
            <a:off x="1214280" y="4357800"/>
            <a:ext cx="2173320" cy="23335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d2db9"/>
                </a:solidFill>
                <a:latin typeface="Comic Sans MS"/>
              </a:rPr>
              <a:t>Teacher P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5480" y="3123720"/>
            <a:ext cx="855324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essentially 4 types of questions used to analyse texts.  They ar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. Right there questions/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liter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2. Think and search questions/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re-organisation/inferenti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3. Author and me questions/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inferential/responsiv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4. On my own questions/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responsiv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7391520" y="5257800"/>
            <a:ext cx="12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AutoShape 5">
            <a:hlinkClick r:id="" action="ppaction://hlinkshowjump?jump=previousslide"/>
          </p:cNvPr>
          <p:cNvSpPr/>
          <p:nvPr/>
        </p:nvSpPr>
        <p:spPr>
          <a:xfrm>
            <a:off x="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AutoShape 6">
            <a:hlinkClick r:id="" action="ppaction://hlinkshowjump?jump=nextslide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614880" y="1447920"/>
            <a:ext cx="8504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tudents will view a series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f slides and practice identifying, answering,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d writing question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d2db9"/>
                </a:solidFill>
                <a:latin typeface="Times New Roman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4">
            <a:hlinkClick r:id="" action="ppaction://hlinkshowjump?jump=previousslide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AutoShape 5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609480" y="1785960"/>
            <a:ext cx="8444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The teacher will click through each of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lide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 Discuss the different types of question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lated Activity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tribute a test that the students have taken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dentify the question types used on the test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Comic Sans MS"/>
              </a:rPr>
              <a:t>There are many kinds of question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2268720" y="2209680"/>
            <a:ext cx="468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80"/>
                </a:solidFill>
                <a:latin typeface="Comic Sans MS"/>
              </a:rPr>
              <a:t>What is your name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773640" y="3124080"/>
            <a:ext cx="788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How many days until your birthday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839160" y="4038480"/>
            <a:ext cx="791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Which character was the friendliest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1401480" y="4876920"/>
            <a:ext cx="603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Comic Sans MS"/>
              </a:rPr>
              <a:t>What is your favorite color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AutoShape 7">
            <a:hlinkClick r:id="" action="ppaction://hlinkshowjump?jump=previousslide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AutoShape 8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8" name="Picture 9" descr=""/>
          <p:cNvPicPr/>
          <p:nvPr/>
        </p:nvPicPr>
        <p:blipFill>
          <a:blip r:embed="rId2"/>
          <a:stretch/>
        </p:blipFill>
        <p:spPr>
          <a:xfrm>
            <a:off x="38160" y="1143000"/>
            <a:ext cx="1890720" cy="198108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3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3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600"/>
                            </p:stCondLst>
                            <p:childTnLst>
                              <p:par>
                                <p:cTn id="3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6400"/>
                            </p:stCondLst>
                            <p:childTnLst>
                              <p:par>
                                <p:cTn id="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786880" cy="200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6699"/>
                </a:solidFill>
                <a:latin typeface="Comic Sans MS"/>
              </a:rPr>
              <a:t>“</a:t>
            </a:r>
            <a:r>
              <a:rPr b="1" i="1" lang="en-US" sz="4400" spc="-1" strike="noStrike">
                <a:solidFill>
                  <a:srgbClr val="666699"/>
                </a:solidFill>
                <a:latin typeface="Comic Sans MS"/>
              </a:rPr>
              <a:t>Right There”</a:t>
            </a:r>
            <a:br>
              <a:rPr sz="4400"/>
            </a:br>
            <a:r>
              <a:rPr b="1" i="1" lang="en-US" sz="4400" spc="-1" strike="noStrike">
                <a:solidFill>
                  <a:srgbClr val="ff0000"/>
                </a:solidFill>
                <a:latin typeface="Comic Sans MS"/>
              </a:rPr>
              <a:t>Hand/Lit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1143000" y="4214880"/>
            <a:ext cx="7202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80"/>
                </a:solidFill>
                <a:latin typeface="Comic Sans MS"/>
              </a:rPr>
              <a:t>You can point to the answe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80"/>
                </a:solidFill>
                <a:latin typeface="Comic Sans MS"/>
              </a:rPr>
              <a:t> “</a:t>
            </a:r>
            <a:r>
              <a:rPr b="1" lang="en-US" sz="4000" spc="-1" strike="noStrike">
                <a:solidFill>
                  <a:srgbClr val="008080"/>
                </a:solidFill>
                <a:latin typeface="Comic Sans MS"/>
              </a:rPr>
              <a:t>right there” in the text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AutoShape 5">
            <a:hlinkClick r:id="" action="ppaction://hlinkshowjump?jump=previousslide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AutoShape 6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3" name="Picture 7" descr=""/>
          <p:cNvPicPr/>
          <p:nvPr/>
        </p:nvPicPr>
        <p:blipFill>
          <a:blip r:embed="rId2"/>
          <a:stretch/>
        </p:blipFill>
        <p:spPr>
          <a:xfrm>
            <a:off x="3286080" y="2286000"/>
            <a:ext cx="2286000" cy="15969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3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" dur="3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928800" y="4357800"/>
            <a:ext cx="7286400" cy="1285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1" lang="en-US" sz="6000" spc="-1" strike="noStrike">
                <a:solidFill>
                  <a:srgbClr val="3333cc"/>
                </a:solidFill>
                <a:latin typeface="Comic Sans MS"/>
              </a:rPr>
              <a:t>Right There”</a:t>
            </a:r>
            <a:br>
              <a:rPr sz="6000"/>
            </a:b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Hand/Liter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99680" y="1980720"/>
            <a:ext cx="83581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6699"/>
                </a:solidFill>
                <a:latin typeface="Comic Sans MS"/>
              </a:rPr>
              <a:t>Mary had a little lamb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6699"/>
                </a:solidFill>
                <a:latin typeface="Comic Sans MS"/>
              </a:rPr>
              <a:t>It’s fleece was white as snow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873000" y="3733920"/>
            <a:ext cx="7198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kind of animal did Mar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ave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7000920" y="1357200"/>
            <a:ext cx="1947960" cy="159084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6">
            <a:hlinkClick r:id="" action="ppaction://hlinkshowjump?jump=previousslide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AutoShape 7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horz"/>
    <p:sndAc>
      <p:stSnd>
        <p:snd r:embed="rId3" name="APPLAUSE.WAV"/>
      </p:stSnd>
    </p:sndAc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" dur="3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800"/>
                            </p:stCondLst>
                            <p:childTnLst>
                              <p:par>
                                <p:cTn id="72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" dur="3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900"/>
                            </p:stCondLst>
                            <p:childTnLst>
                              <p:par>
                                <p:cTn id="76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300"/>
                            </p:stCondLst>
                            <p:childTnLst>
                              <p:par>
                                <p:cTn id="8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7120" y="428400"/>
            <a:ext cx="8501040" cy="132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996633"/>
                </a:solidFill>
                <a:latin typeface="Comic Sans MS"/>
              </a:rPr>
              <a:t>“</a:t>
            </a:r>
            <a:r>
              <a:rPr b="1" i="1" lang="en-US" sz="3600" spc="-1" strike="noStrike">
                <a:solidFill>
                  <a:srgbClr val="663300"/>
                </a:solidFill>
                <a:latin typeface="Comic Sans MS"/>
              </a:rPr>
              <a:t>Think and Search”</a:t>
            </a:r>
            <a:br>
              <a:rPr sz="3600"/>
            </a:br>
            <a:r>
              <a:rPr b="1" i="1" lang="en-US" sz="3600" spc="-1" strike="noStrike">
                <a:solidFill>
                  <a:srgbClr val="663300"/>
                </a:solidFill>
                <a:latin typeface="Comic Sans MS"/>
              </a:rPr>
              <a:t>Hand &amp; Head</a:t>
            </a:r>
            <a:br>
              <a:rPr sz="3600"/>
            </a:br>
            <a:r>
              <a:rPr b="1" i="1" lang="en-US" sz="3600" spc="-1" strike="noStrike">
                <a:solidFill>
                  <a:srgbClr val="ff0000"/>
                </a:solidFill>
                <a:latin typeface="Comic Sans MS"/>
              </a:rPr>
              <a:t>Literal re-organisation/Inferent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42600" y="3857760"/>
            <a:ext cx="735804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You need to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Search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text for information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and Think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bout what you kno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4">
            <a:hlinkClick r:id="" action="ppaction://hlinkshowjump?jump=previousslide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AutoShape 5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3071880" y="2357280"/>
            <a:ext cx="2714400" cy="1357560"/>
          </a:xfrm>
          <a:prstGeom prst="rect">
            <a:avLst/>
          </a:prstGeom>
          <a:ln w="0">
            <a:noFill/>
          </a:ln>
        </p:spPr>
      </p:pic>
    </p:spTree>
  </p:cSld>
  <p:transition>
    <p:wipe dir="u"/>
    <p:sndAc>
      <p:stSnd>
        <p:snd r:embed="rId3" name="DRUMROLL.WAV"/>
      </p:stSnd>
    </p:sndAc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3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500"/>
                            </p:stCondLst>
                            <p:childTnLst>
                              <p:par>
                                <p:cTn id="9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75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1428840" y="4714920"/>
            <a:ext cx="6286320" cy="1071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2920" y="500040"/>
            <a:ext cx="8858160" cy="22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6633"/>
                </a:solidFill>
                <a:latin typeface="Comic Sans MS"/>
              </a:rPr>
              <a:t>“</a:t>
            </a:r>
            <a:r>
              <a:rPr b="1" lang="en-US" sz="4800" spc="-1" strike="noStrike">
                <a:solidFill>
                  <a:srgbClr val="666633"/>
                </a:solidFill>
                <a:latin typeface="Comic Sans MS"/>
              </a:rPr>
              <a:t>Think and Search”</a:t>
            </a:r>
            <a:br>
              <a:rPr sz="4800"/>
            </a:br>
            <a:r>
              <a:rPr b="1" i="1" lang="en-US" sz="4400" spc="-1" strike="noStrike">
                <a:solidFill>
                  <a:srgbClr val="663300"/>
                </a:solidFill>
                <a:latin typeface="Comic Sans MS"/>
              </a:rPr>
              <a:t> Hand &amp; Head</a:t>
            </a:r>
            <a:r>
              <a:rPr b="1" i="1" lang="en-US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br>
              <a:rPr sz="4400"/>
            </a:b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Literal/Inferent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000080" y="2285640"/>
            <a:ext cx="739152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omic Sans MS"/>
              </a:rPr>
              <a:t>Jack and Jill went up the hill to fetch a pail of wa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00"/>
                </a:solidFill>
                <a:latin typeface="Comic Sans MS"/>
              </a:rPr>
              <a:t>Jack be nimble, Jack be quick, Jack jump over the candlesti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285840" y="4267080"/>
            <a:ext cx="835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w are the two Jack’s similar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w are they differen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0" name="Picture 7" descr=""/>
          <p:cNvPicPr/>
          <p:nvPr/>
        </p:nvPicPr>
        <p:blipFill>
          <a:blip r:embed="rId2"/>
          <a:stretch/>
        </p:blipFill>
        <p:spPr>
          <a:xfrm>
            <a:off x="476280" y="2057400"/>
            <a:ext cx="277920" cy="304812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8">
            <a:hlinkClick r:id="" action="ppaction://hlinkshowjump?jump=previousslide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AutoShape 9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in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" dur="3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200"/>
                            </p:stCondLst>
                            <p:childTnLst>
                              <p:par>
                                <p:cTn id="10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0" dur="3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8400"/>
                            </p:stCondLst>
                            <p:childTnLst>
                              <p:par>
                                <p:cTn id="11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8900"/>
                            </p:stCondLst>
                            <p:childTnLst>
                              <p:par>
                                <p:cTn id="11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6T16:28:03Z</dcterms:created>
  <dc:creator>Mary Ruebusch</dc:creator>
  <dc:description/>
  <dc:language>en-US</dc:language>
  <cp:lastModifiedBy>olyons</cp:lastModifiedBy>
  <dcterms:modified xsi:type="dcterms:W3CDTF">2010-07-29T01:36:15Z</dcterms:modified>
  <cp:revision>38</cp:revision>
  <dc:subject/>
  <dc:title>Strategies for Questions</dc:title>
</cp:coreProperties>
</file>